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2A4-706B-4A4A-86E2-D4760DE5A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and lead mee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achers technology-rich lessons, templates, or Web s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 teachers in writing/adapting standards-based, technology-rich lessons, activities, or uni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achers technology-rich lessons, templates, or Web s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a colleague as equals on a pro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l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and take on the role as expe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effective ways to integrate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-teach a less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ly share examples of studen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examples of technology-rich lessons at staff mee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you migh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your cooperating teachers to become independent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nication skills to focus on student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relationships and tru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F01-9E22-434D-A080-CC993BE4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132-F719-4E05-84BF-7EF5ED34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CD5-1D0E-48D1-B1F0-F4D61895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DB4-0AAA-46B0-9FB9-90610D69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022-1DE0-4B11-BB12-7B87C490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85E-616E-464A-8200-6133B635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1F3-8DC4-4E6D-8AD8-624D0A69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5A4-7F35-4A77-84E5-B81B892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696-492A-4C7C-A559-C942AE7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79D-B46E-4A1F-9356-FC33354F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8B3-8B19-4EF5-AD1A-068DCDC8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7A9-829A-4850-854A-AE9BB93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D321-5E8C-4ACA-ADA5-399484E8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hancing Education Through Technology-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Peer Coach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 </a:t>
            </a:r>
            <a:br>
              <a:rPr sz="4400"/>
            </a:br>
            <a:br>
              <a:rPr sz="44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onsored by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will we sha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ct Technology 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r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oal of the EETT Grant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er Coaching Progr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ll enhance standards-based instr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assisting teachers to offer students engaging, technology-rich, learning activit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Peer Coaching?</a:t>
            </a:r>
            <a:br>
              <a:rPr sz="6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lvl="3" marL="1040040" indent="-148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st typical models of professional development emphasize theory and pract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400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2680" indent="-1483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able was adapted from research on the impact of professional development (Joyce &amp; Showers, 1994; Showers, Murphy &amp; Joyce, 199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0720" y="2590920"/>
          <a:ext cx="7772400" cy="1912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59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ype of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nowledge Mast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kill Acqui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lassroom Appl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heory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–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actice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–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ort of impact does professional development, including coaching, have on classroom practic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development that includes peer coaching, study teams, or peer visits to provide opportunities for collaboration, feedback, and reflection, has a clear impact on classroom practice, as the last row in the following table sugges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3276720"/>
          <a:ext cx="7620120" cy="1828800"/>
        </p:xfrm>
        <a:graphic>
          <a:graphicData uri="http://schemas.openxmlformats.org/drawingml/2006/table">
            <a:tbl>
              <a:tblPr/>
              <a:tblGrid>
                <a:gridCol w="2013120"/>
                <a:gridCol w="1797120"/>
                <a:gridCol w="1904760"/>
                <a:gridCol w="19051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ype of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nowledge 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kill Acqui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lassroom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heory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–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actice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–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Coaching, Study Team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0–90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goal of the coaching 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01064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roles do coaches pl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l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will be in coache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ho have an interest in increasing their connections between standards based instruction and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ho have intermediate to advanced skills with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s willing to step out of their comfort zone and take a risk with their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resources are available from the EETT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for ti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fo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will benefi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partner in learning and creating new applied learning situations with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ing Teacher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earning new ways to realistically integrate technology into their class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U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7:49:16Z</dcterms:created>
  <dc:creator>01167</dc:creator>
  <dc:description/>
  <dc:language>en-US</dc:language>
  <cp:lastModifiedBy>BSD501</cp:lastModifiedBy>
  <dcterms:modified xsi:type="dcterms:W3CDTF">2007-07-31T19:42:25Z</dcterms:modified>
  <cp:revision>10</cp:revision>
  <dc:subject/>
  <dc:title>EETT Peer Coaching </dc:title>
</cp:coreProperties>
</file>